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9E2-D979-408B-9F3F-EBF28E85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20AB-120B-4BD9-9DBA-31CB431C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F18-F9BE-4689-AE9C-4CC265FA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9CB-DC5E-474E-AB41-2F739B6D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9846-C656-4B17-92BB-F489C7B7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0B3-1E33-409B-92B5-4A33E7A6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B0B-00A4-4FDB-AFC4-0A41D64B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926-9686-4171-A4B3-808FE11B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9AC-202E-4CD9-878A-BD8C496E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5D0-9C63-483B-A2BA-DF9697C2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7FB-4A66-40A3-A0A6-D1412D7E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1DDD-DE08-4600-9398-ED13398E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3EFA-4530-4C19-A407-5DB2D1D4C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on L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: Taylor Kno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hn Wal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iving on the Mo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later missions we could drive on the m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:\World History\The Moon Landing.m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743200" y="32767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Apollo 1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il Armst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hael Coll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win Aldrin J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11crew" descr="Apollo 11 Crew"/>
          <p:cNvPicPr/>
          <p:nvPr/>
        </p:nvPicPr>
        <p:blipFill>
          <a:blip r:embed="rId1"/>
          <a:stretch/>
        </p:blipFill>
        <p:spPr>
          <a:xfrm>
            <a:off x="3962520" y="1981080"/>
            <a:ext cx="4000320" cy="2994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71600" y="44197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Lau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ly 16, 1969 the Apollo 11 launched from the Kennedy Space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62520" y="3657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nding on Mo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ly 20, 1969 Neil Armstrong became first man on the m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oonLanding" descr="The Moonlanding"/>
          <p:cNvPicPr/>
          <p:nvPr/>
        </p:nvPicPr>
        <p:blipFill>
          <a:blip r:embed="rId1"/>
          <a:stretch/>
        </p:blipFill>
        <p:spPr>
          <a:xfrm>
            <a:off x="4800600" y="2057400"/>
            <a:ext cx="371484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819520" y="44956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Lunar Mo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” had two parts: the descent stage and the ascent s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11_LMfull" descr="Apollo 11 Lunar Module"/>
          <p:cNvPicPr/>
          <p:nvPr/>
        </p:nvPicPr>
        <p:blipFill>
          <a:blip r:embed="rId1"/>
          <a:stretch/>
        </p:blipFill>
        <p:spPr>
          <a:xfrm>
            <a:off x="5334120" y="1905120"/>
            <a:ext cx="3268440" cy="29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733920" y="44197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lking on the Mo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the surface of the moon they had to get used to the reduced gravity and they could jump real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oonWalk" descr="Walking on the Moon"/>
          <p:cNvPicPr/>
          <p:nvPr/>
        </p:nvPicPr>
        <p:blipFill>
          <a:blip r:embed="rId1"/>
          <a:stretch/>
        </p:blipFill>
        <p:spPr>
          <a:xfrm>
            <a:off x="5029200" y="1981080"/>
            <a:ext cx="3714840" cy="2971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581280" y="4952880"/>
            <a:ext cx="10670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l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american flag was put on the moons surface for a reminder of there accomplis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moonflag2" descr="Flag on the Moon"/>
          <p:cNvPicPr/>
          <p:nvPr/>
        </p:nvPicPr>
        <p:blipFill>
          <a:blip r:embed="rId1"/>
          <a:stretch/>
        </p:blipFill>
        <p:spPr>
          <a:xfrm>
            <a:off x="4952880" y="2133720"/>
            <a:ext cx="3429000" cy="2936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505320" y="51814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b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-entry vehicle for returning back to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apollo_11_cm" descr="Orbiting the Moon"/>
          <p:cNvPicPr/>
          <p:nvPr/>
        </p:nvPicPr>
        <p:blipFill>
          <a:blip r:embed="rId1"/>
          <a:stretch/>
        </p:blipFill>
        <p:spPr>
          <a:xfrm>
            <a:off x="5029200" y="1828800"/>
            <a:ext cx="326880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048120" y="41911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turning to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ed on July 24, 19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WaterLanding" descr="Apollo 11 Returning to Earth"/>
          <p:cNvPicPr/>
          <p:nvPr/>
        </p:nvPicPr>
        <p:blipFill>
          <a:blip r:embed="rId1"/>
          <a:stretch/>
        </p:blipFill>
        <p:spPr>
          <a:xfrm>
            <a:off x="5105520" y="2819520"/>
            <a:ext cx="371448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90920" y="36576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5:38:09Z</dcterms:created>
  <dc:creator>Richland School District</dc:creator>
  <dc:description/>
  <dc:language>en-US</dc:language>
  <cp:lastModifiedBy>Richland School District</cp:lastModifiedBy>
  <dcterms:modified xsi:type="dcterms:W3CDTF">2010-05-19T20:11:36Z</dcterms:modified>
  <cp:revision>4</cp:revision>
  <dc:subject/>
  <dc:title>The Moon Landing</dc:title>
</cp:coreProperties>
</file>